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14E-3ED4-4231-BD62-C7097001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49F-0504-4388-B499-E816EA53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E6D-32F7-4EB1-9553-CA0A706D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CD0-49CA-4A05-AD90-C46C9E0B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772-5CC7-4581-A26C-488E74F2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365-C916-465F-A137-A2AC0218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558-857D-4AAA-8F4C-081E6517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BC0-219D-400A-A1CC-9E8E8A0C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E51-0F93-47E8-9686-628E2D76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56F-69FA-42EA-BFE5-51D95E1F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B6B-3C03-43C1-88B7-EEBB4F7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9E6-97A6-4006-8538-402AC32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EF1D-2B4B-47E6-8DFC-0788116BF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’étude d’opportun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66880"/>
            <a:ext cx="487692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tructur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Servic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dacteur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. Anto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76920" y="866880"/>
            <a:ext cx="198108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organisation du processus courrier siè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et enjeux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ation de la qualité perçue par les clients et sécurisation du process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objet du changemen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ircuits de circulation de l’information, outil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mpacts organisationnels et humai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tandards de temps, de forme et de fond, nouveau processus de traitement et spécialisation des fo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729936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Volume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e processus au détriment de la qualité technique et commerciale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642924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igence de qualit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 de réponse, exhaustivité des réponses, traçabilité et conser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eur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générale, directeurs, chefs de service et agents d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81662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ût de fonctionnement identique à ceux actuels / Investissement informatique très fa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lais de mise en œuvr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contrainte spécifique (pas d’obligation réglementai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10:05:14Z</dcterms:modified>
  <cp:revision>102</cp:revision>
  <dc:subject/>
  <dc:title>Présentation PowerPoint</dc:title>
</cp:coreProperties>
</file>